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EB911-C906-436A-8C4D-968073AC7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7163B-CAA7-4B72-A178-2EDEC09A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8BFD6-DAD9-4C68-BDC1-1B037721D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33E0C-451A-465C-9252-73A0F5E48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810A7-53E5-45E7-ADC5-C1AA81FE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1815F-703C-4DD9-9C20-37FF0DD2D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7D151-A720-4AE5-82A9-D6EF915B2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2F080-F91F-40A4-97F0-D1AED3C8E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5AF5F-1FA8-4C69-BEB3-4A49B758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7E157-AAF3-4D94-898C-8887B1035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FE0B-BAC7-4BF0-833D-E698DB27B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960BD-BEB5-4E18-935C-96442A7DE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520E-2324-49F5-992D-48E226C7B1D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shakespeares-globe.org/navigation/tour.ht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065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e</a:t>
            </a:r>
            <a:endParaRPr b="0" lang="en-US" sz="4400" spc="-1" strike="noStrike">
              <a:solidFill>
                <a:srgbClr val="e3ebf1"/>
              </a:solidFill>
              <a:latin typeface="Arial"/>
            </a:endParaRPr>
          </a:p>
        </p:txBody>
      </p:sp>
      <p:sp>
        <p:nvSpPr>
          <p:cNvPr id="42" name="PlaceHolder 2"/>
          <p:cNvSpPr>
            <a:spLocks noGrp="1"/>
          </p:cNvSpPr>
          <p:nvPr>
            <p:ph type="subTitle"/>
          </p:nvPr>
        </p:nvSpPr>
        <p:spPr>
          <a:xfrm>
            <a:off x="1981080" y="2743200"/>
            <a:ext cx="5486400" cy="3124080"/>
          </a:xfrm>
          <a:prstGeom prst="rect">
            <a:avLst/>
          </a:prstGeom>
          <a:noFill/>
          <a:ln w="0">
            <a:noFill/>
          </a:ln>
        </p:spPr>
        <p:txBody>
          <a:bodyPr lIns="90000" rIns="90000" tIns="46800" bIns="46800" anchor="t">
            <a:noAutofit/>
          </a:bodyPr>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ief Biography</a:t>
            </a:r>
            <a:endParaRPr b="0" lang="en-US" sz="32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lobe Theater</a:t>
            </a:r>
            <a:endParaRPr b="0" lang="en-US" sz="32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s, Motifs, and Symbols in </a:t>
            </a:r>
            <a:r>
              <a:rPr b="0" lang="en-US" sz="3200" spc="-1" strike="noStrike" u="sng">
                <a:solidFill>
                  <a:srgbClr val="ffffff"/>
                </a:solidFill>
                <a:uFillTx/>
                <a:latin typeface="Arial"/>
              </a:rPr>
              <a:t>Romeo and Juliet</a:t>
            </a:r>
            <a:endParaRPr b="0" lang="en-US" sz="32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matic Te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built in 1599 and burned down 14 years later in 1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an 8 sided building with a central y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tators’ price of admissions was</a:t>
            </a:r>
            <a:endParaRPr b="0" lang="en-US" sz="32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penny - to stand in yard around stage (these were called the groundlings)</a:t>
            </a:r>
            <a:endParaRPr b="0" lang="en-US" sz="28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ennies - to sit in 2nd and 3rd floor galleries</a:t>
            </a:r>
            <a:endParaRPr b="0" lang="en-US" sz="28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pennies - to sit in the first floor galler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of yard was filled with 6ft high platform</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urtain</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rtificial lighting</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wall had at least two doors</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cony was used for hilltops, walls of cities, or second story scenes.</a:t>
            </a:r>
            <a:endParaRPr b="0" lang="en-US" sz="24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doors were used to raise or lower actors and prop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tour of the new Globe Theater. .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66ccff"/>
                </a:solidFill>
                <a:uFillTx/>
                <a:latin typeface="Arial"/>
                <a:hlinkClick r:id="rId1"/>
              </a:rPr>
              <a:t>Shakespeare's Globe Theat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gedy:  A drama that ends in catastrophe—most often death—for the main character and often for several other important characters as we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gic Hero:  The main character, someone who is nobly born and has great influence in his or her society.  This character has weakness or errors in judgment (Tragic Flaws) that lead to his or her downfall.  Fate may play a role in the course that events t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ic Relief:  A humorous scene, incident, or speech that relieves the overall emotional intensity in the play.  Comic relief helps the audience absorb the tragic events in the plot of a pl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usion:  A brief reference, within a work,  to something outside the work that the reader or audience is expected to know.  Many of Shakespeare’s allusions are to mythology or the B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il:  A character whose personality or attitudes are in sharp contrast to those of another character in the same work.  This highlights the other character’s tra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loquy and Asi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oliloquy is a speech made by an actor alone on stage to let the audience know what is on that character’s min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Aside is a character’s remark to the audience or to another character that others on stage aren’t supposed to hear.  The purpose of an aside is to reveal that character’s though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nk Verse:  Unrhymed lines of iambic pentameter.  Shakespeare wrote all of his plays in blank ver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in April 1564 at Stratford-on-Avon</a:t>
            </a:r>
            <a:endParaRPr b="0" lang="en-US" sz="3200" spc="-1" strike="noStrike">
              <a:solidFill>
                <a:srgbClr val="ffffff"/>
              </a:solidFill>
              <a:latin typeface="Arial"/>
            </a:endParaRPr>
          </a:p>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Shakespeare (father)</a:t>
            </a:r>
            <a:endParaRPr b="0"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ner, glover, dealer in grain</a:t>
            </a:r>
            <a:endParaRPr b="0"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wn official (alderman, and later mayor)</a:t>
            </a:r>
            <a:endParaRPr b="0" lang="en-US" sz="2800" spc="-1" strike="noStrike">
              <a:solidFill>
                <a:srgbClr val="ffffff"/>
              </a:solidFill>
              <a:latin typeface="Arial"/>
            </a:endParaRPr>
          </a:p>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mother)</a:t>
            </a:r>
            <a:endParaRPr b="0"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ughter of Robert Arden, a prosperous gentleman-farm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Blank Verse</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         ~       /       ~          /  ~       /    ~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soft.|What light| through yon|der win|dow brea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    /         ~   /   ~~  /    ~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the east|, and Jul|iet is |the su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nded the Stratford Grammar Sch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not go to Oxford or Cambridg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ed Anne Hathaway in 158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children born:  Susanna, Judith, and Hamne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590, he was an actor and playwright</a:t>
            </a:r>
            <a:endParaRPr b="0" lang="en-US" sz="3200" spc="-1" strike="noStrike">
              <a:solidFill>
                <a:srgbClr val="ffffff"/>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 of the Lord Chamberlain’s Men and the King’s Men</a:t>
            </a:r>
            <a:endParaRPr b="0" lang="en-US" sz="3200" spc="-1" strike="noStrike">
              <a:solidFill>
                <a:srgbClr val="ffffff"/>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d April 23, 161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buried in Stratford; the inscription on his tombstone reads.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od Friend, for Jesus’ sake, forbea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ig the dust enclosed her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t be the man that spares these ston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urst be he that moves my b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5" name="" descr=""/>
          <p:cNvPicPr/>
          <p:nvPr/>
        </p:nvPicPr>
        <p:blipFill>
          <a:blip r:embed="rId1">
            <a:grayscl/>
          </a:blip>
          <a:stretch/>
        </p:blipFill>
        <p:spPr>
          <a:xfrm>
            <a:off x="2743200" y="4354560"/>
            <a:ext cx="3200400" cy="2122560"/>
          </a:xfrm>
          <a:prstGeom prst="rect">
            <a:avLst/>
          </a:prstGeom>
          <a:ln w="4752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 of 37 plays and 154 sonnets</a:t>
            </a:r>
            <a:endParaRPr b="0" lang="en-US" sz="2800" spc="-1" strike="noStrike">
              <a:solidFill>
                <a:srgbClr val="ffffff"/>
              </a:solidFill>
              <a:latin typeface="Arial"/>
            </a:endParaRPr>
          </a:p>
          <a:p>
            <a:pPr marL="533520" indent="-533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Greene, a critic, attacked Shakespeare, a mere actor, for writing plays.</a:t>
            </a:r>
            <a:endParaRPr b="0" lang="en-US" sz="2800" spc="-1" strike="noStrike">
              <a:solidFill>
                <a:srgbClr val="ffffff"/>
              </a:solidFill>
              <a:latin typeface="Arial"/>
            </a:endParaRPr>
          </a:p>
          <a:p>
            <a:pPr marL="533520" indent="-533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cted before Queen Elizabeth in 1594.</a:t>
            </a:r>
            <a:endParaRPr b="0" lang="en-US" sz="2800" spc="-1" strike="noStrike">
              <a:solidFill>
                <a:srgbClr val="ffffff"/>
              </a:solidFill>
              <a:latin typeface="Arial"/>
            </a:endParaRPr>
          </a:p>
          <a:p>
            <a:pPr marL="533520" indent="-533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act year in which William Shakespeare wrote </a:t>
            </a:r>
            <a:r>
              <a:rPr b="0" i="1" lang="en-US" sz="2800" spc="-1" strike="noStrike">
                <a:solidFill>
                  <a:srgbClr val="ffffff"/>
                </a:solidFill>
                <a:latin typeface="Arial"/>
              </a:rPr>
              <a:t>Romeo and Juliet</a:t>
            </a:r>
            <a:r>
              <a:rPr b="0" lang="en-US" sz="2800" spc="-1" strike="noStrike">
                <a:solidFill>
                  <a:srgbClr val="ffffff"/>
                </a:solidFill>
                <a:latin typeface="Arial"/>
              </a:rPr>
              <a:t> is unknown, but it is definitely one of his earlier works, and one of only two tragedies written in the period from 1590 to 1595 </a:t>
            </a:r>
            <a:endParaRPr b="0" lang="en-US" sz="2800" spc="-1" strike="noStrike">
              <a:solidFill>
                <a:srgbClr val="ffffff"/>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rote his plays to be performed in the Globe Theater.</a:t>
            </a:r>
            <a:endParaRPr b="0" lang="en-US" sz="3200" spc="-1" strike="noStrike">
              <a:solidFill>
                <a:srgbClr val="ffffff"/>
              </a:solidFill>
              <a:latin typeface="Arial"/>
            </a:endParaRPr>
          </a:p>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ly account we have of the Globe is from a diary of a Swiss doctor who visited London and crossed the Thames River to see a play in a theater with a thatched roof.</a:t>
            </a:r>
            <a:endParaRPr b="0" lang="en-US" sz="3200" spc="-1" strike="noStrike">
              <a:solidFill>
                <a:srgbClr val="ffffff"/>
              </a:solidFill>
              <a:latin typeface="Arial"/>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ps</cp:lastModifiedBy>
  <dcterms:modified xsi:type="dcterms:W3CDTF">2009-01-27T19:36:13Z</dcterms:modified>
  <cp:revision>4</cp:revision>
  <dc:subject/>
  <dc:title>PowerPoint Presentation</dc:title>
</cp:coreProperties>
</file>